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A8152-512F-4078-B492-12C7884A6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49C72-E74A-4C1A-92E6-947323D1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1542B-5E4E-49D6-B039-18BBFC78A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89F52-9EB3-45F2-B80D-3EEA618D6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7302-19B0-420F-9E40-1EF6EFF42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53C6-2FE1-435E-9A5A-AAF18E16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26E2-1649-4C90-9C09-3D8CBD32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7C72-ECE3-4A4A-A3F1-B59C13BA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6CC3-D1FF-47AE-BD76-E807701B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5807-D4EF-4DDE-AD4F-0C70D942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E805-3098-4408-9DF9-139BAD05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2FE67-B81E-4F7F-B679-48D1362E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5444-C425-4AC1-9CFB-048B7CC1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D6FF-5CC0-4001-B075-82156452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4ED08-B7A9-4C23-9624-D0D34DFA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1D81-45E7-45E6-821D-3B990BC99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C673-AAEF-43CE-BFF6-3961EF5D2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F7AD4-F13A-4FBF-9182-D05F0A49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1366E-94FE-46AC-BE47-6CB87161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D2DC7-83A0-4532-9C5B-4B59FBD7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6CD63-C288-4CB5-99E1-826DD066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A3097-2CBD-46CE-8E0E-F35DF0C4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2AA94-A48E-49B0-BDFC-E9C0E14E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3DD66-F294-491C-9240-26D005F8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54BA-890A-4832-9760-D892ED992CC6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4BC3-49C4-4AA0-B703-A0172F8816EC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81080" y="1450440"/>
            <a:ext cx="9325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14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Пр.401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Слънце ярко днес в душа ми грей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-славно то блест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всичко земно! О, Христ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уй слънце сам Си Т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1809000"/>
            <a:ext cx="9648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рее слънце, славно слънц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ом съм в мир, блаженство със Христа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гледне ли с усмивка Той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лънце грее ми в душ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252360" y="2418480"/>
            <a:ext cx="96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Днес в душа ми музика ехт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Хвала на Царя м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тайни песни във сърце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з знам - ще чуе Т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252360" y="1809000"/>
            <a:ext cx="9648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рее слънце, славно слънц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ом съм в мир, блаженство със Христа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гледне ли с усмивка Той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лънце грее ми в душ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36360" y="2437560"/>
            <a:ext cx="921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Пролет мила е в душа ми днес, кога се Бог вести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сърце ми трепка нов живот и благодат цъфт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252360" y="1809000"/>
            <a:ext cx="9648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рее слънце, славно слънц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ом съм в мир, блаженство със Христа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гледне ли с усмивка Той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лънце грее ми в душ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-36360" y="2437560"/>
            <a:ext cx="921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4. Днес в душата ми цари възторг, надежда и хвал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благости Господни тук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радост в вечността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-252360" y="1809000"/>
            <a:ext cx="9648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рее слънце, славно слънц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ом съм в мир, блаженство със Христа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гледне ли с усмивка Той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лънце грее ми в душ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2-01-21T17:05:42Z</dcterms:modified>
  <cp:revision>72</cp:revision>
  <dc:subject/>
  <dc:title>Slide 1</dc:title>
</cp:coreProperties>
</file>